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6.wmf" ContentType="image/x-wmf"/>
  <Override PartName="/ppt/media/image17.png" ContentType="image/png"/>
  <Override PartName="/ppt/media/image14.gif" ContentType="image/gi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gif" ContentType="image/gif"/>
  <Override PartName="/ppt/media/image6.wmf" ContentType="image/x-wmf"/>
  <Override PartName="/ppt/media/image11.wmf" ContentType="image/x-wmf"/>
  <Override PartName="/ppt/media/image5.wmf" ContentType="image/x-wmf"/>
  <Override PartName="/ppt/media/image10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C27A-ABDE-4FA5-B681-3B7603961ABD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DCEB-9082-4AAD-B5DD-A1B5E2E9A772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2C18-B9EA-4F0D-A510-BABBB08DA8EC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1A73-3E60-452F-8479-A5B2FC2E2E18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C289-2D27-41C6-8AB9-5887CE4F6F0D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20FB-A217-4870-B01D-9D09A6FF1477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4B62-4199-42B6-B8D5-AB2A5370CB8C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E38B-F94D-41F4-8285-6762F65E27C7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5816-2A6A-40A6-8D5E-4131764D5CC9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7AEC-8B38-4D45-9F41-6E02B092AE3B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D435-0AF7-450A-8EF7-A6C75825AD07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47FE-60AA-42CD-A435-19D285154980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F6E8-A291-47D3-86E5-5433B7D71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46DE-D2B2-4845-956F-2C7EC53B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C6DB-872E-4388-9844-C8F248D39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26F3-789F-4E3B-B2D3-4E97991F8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C7F5-2E66-4A9C-BFF4-965B3270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6E5B-56D7-4882-A427-9E6B4036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4E67-3BF2-4BB0-9289-A2B7EBC6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2326-45D5-404A-A90F-23CE48C8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CD99-15DC-4901-99BC-02D6D91E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F507-657F-407F-A024-3BD2D8D7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B4EF-FCE5-4F77-8CA2-CA026A26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03B6-6322-477D-87AB-A4FC6DC3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87D3-E237-4A92-A329-E9A6A0553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aine 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j0111166"/>
          <p:cNvPicPr/>
          <p:nvPr/>
        </p:nvPicPr>
        <p:blipFill>
          <a:blip r:embed="rId1"/>
          <a:stretch/>
        </p:blipFill>
        <p:spPr>
          <a:xfrm>
            <a:off x="2571840" y="2214720"/>
            <a:ext cx="324324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kstikehys 2"/>
          <p:cNvSpPr/>
          <p:nvPr/>
        </p:nvSpPr>
        <p:spPr>
          <a:xfrm>
            <a:off x="1330200" y="928800"/>
            <a:ext cx="71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Ilmanpaine vaikuttaa kiehumis-ja sulamispistees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kstikehys 3"/>
          <p:cNvSpPr/>
          <p:nvPr/>
        </p:nvSpPr>
        <p:spPr>
          <a:xfrm>
            <a:off x="1428840" y="2214720"/>
            <a:ext cx="5711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Vesi kiehuu Mont Everestillä 70 celsiusasteessa, koska ilmanpaine on pienempi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kstikehys 4"/>
          <p:cNvSpPr/>
          <p:nvPr/>
        </p:nvSpPr>
        <p:spPr>
          <a:xfrm>
            <a:off x="1180440" y="4000680"/>
            <a:ext cx="776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Painekattilassa vesi kiehuu 120 celsiusastee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6858000" y="2000160"/>
            <a:ext cx="1819440" cy="1752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2"/>
          <a:stretch/>
        </p:blipFill>
        <p:spPr>
          <a:xfrm>
            <a:off x="2071800" y="5000760"/>
            <a:ext cx="182880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571680" y="785880"/>
            <a:ext cx="2260440" cy="1728720"/>
          </a:xfrm>
          <a:prstGeom prst="rect">
            <a:avLst/>
          </a:prstGeom>
          <a:ln w="0">
            <a:noFill/>
          </a:ln>
        </p:spPr>
      </p:pic>
      <p:sp>
        <p:nvSpPr>
          <p:cNvPr id="91" name="Tekstikehys 2"/>
          <p:cNvSpPr/>
          <p:nvPr/>
        </p:nvSpPr>
        <p:spPr>
          <a:xfrm>
            <a:off x="2966760" y="857160"/>
            <a:ext cx="614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iksi fakiiri voi maata piikkimatoll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utta tuntee kipua, kun istuu nastan pääl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kstikehys 4"/>
          <p:cNvSpPr/>
          <p:nvPr/>
        </p:nvSpPr>
        <p:spPr>
          <a:xfrm>
            <a:off x="3740040" y="3571920"/>
            <a:ext cx="393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iksi jäihin uponn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annattaa kieriä jäällä po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kstikehys 5"/>
          <p:cNvSpPr/>
          <p:nvPr/>
        </p:nvSpPr>
        <p:spPr>
          <a:xfrm>
            <a:off x="650160" y="37148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Varokaa heikkoa jäätä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aine syntyy puristuksesta, painos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AG00222_"/>
          <p:cNvPicPr/>
          <p:nvPr/>
        </p:nvPicPr>
        <p:blipFill>
          <a:blip r:embed="rId1"/>
          <a:stretch/>
        </p:blipFill>
        <p:spPr>
          <a:xfrm>
            <a:off x="1908000" y="2276640"/>
            <a:ext cx="1800360" cy="16984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785880" y="5000760"/>
            <a:ext cx="716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Kun kävelet,  painosi puristaa maanpint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9"/>
          <p:cNvSpPr/>
          <p:nvPr/>
        </p:nvSpPr>
        <p:spPr>
          <a:xfrm>
            <a:off x="1979640" y="3933720"/>
            <a:ext cx="66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87748E-006 L 0.63385 0.00232 E">
                                      <p:cBhvr>
                                        <p:cTn id="6" dur="5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365040" y="620640"/>
            <a:ext cx="8094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alanjälkien syvyyttä ja uppoamista  voidaan pienentää jakamalla paino isommalle alall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3714840" y="3786120"/>
            <a:ext cx="221436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os maa on pehmeä, jätät jalanjälkiä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3000240" y="1857240"/>
            <a:ext cx="28576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itkä kengät puristavat eniten pinta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HH01363_"/>
          <p:cNvPicPr/>
          <p:nvPr/>
        </p:nvPicPr>
        <p:blipFill>
          <a:blip r:embed="rId1"/>
          <a:stretch/>
        </p:blipFill>
        <p:spPr>
          <a:xfrm>
            <a:off x="4643280" y="2071800"/>
            <a:ext cx="2008440" cy="1525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j0149364"/>
          <p:cNvPicPr/>
          <p:nvPr/>
        </p:nvPicPr>
        <p:blipFill>
          <a:blip r:embed="rId2"/>
          <a:stretch/>
        </p:blipFill>
        <p:spPr>
          <a:xfrm>
            <a:off x="1349280" y="4097160"/>
            <a:ext cx="2254320" cy="1868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j0280376"/>
          <p:cNvPicPr/>
          <p:nvPr/>
        </p:nvPicPr>
        <p:blipFill>
          <a:blip r:embed="rId3"/>
          <a:stretch/>
        </p:blipFill>
        <p:spPr>
          <a:xfrm>
            <a:off x="5599080" y="4238640"/>
            <a:ext cx="1925640" cy="1781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"/>
          <p:cNvPicPr/>
          <p:nvPr/>
        </p:nvPicPr>
        <p:blipFill>
          <a:blip r:embed="rId4"/>
          <a:stretch/>
        </p:blipFill>
        <p:spPr>
          <a:xfrm>
            <a:off x="1428840" y="1928880"/>
            <a:ext cx="14382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kstikehys 2"/>
          <p:cNvSpPr/>
          <p:nvPr/>
        </p:nvSpPr>
        <p:spPr>
          <a:xfrm>
            <a:off x="2537280" y="285840"/>
            <a:ext cx="61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Ilman lumikenkiä tai suksia ihminen uppoa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anke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kstikehys 4"/>
          <p:cNvSpPr/>
          <p:nvPr/>
        </p:nvSpPr>
        <p:spPr>
          <a:xfrm>
            <a:off x="890280" y="2928960"/>
            <a:ext cx="82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ainon jakautumista tietylle pinta-alalle kutsutaan paineek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kstikehys 5"/>
          <p:cNvSpPr/>
          <p:nvPr/>
        </p:nvSpPr>
        <p:spPr>
          <a:xfrm>
            <a:off x="2680560" y="2000160"/>
            <a:ext cx="620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ankeen kohdistuu vain pieni paine, eikä 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nää  upo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kstikehys 6"/>
          <p:cNvSpPr/>
          <p:nvPr/>
        </p:nvSpPr>
        <p:spPr>
          <a:xfrm>
            <a:off x="251280" y="4572000"/>
            <a:ext cx="656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aineen symboli on p.  Paineen on  yksikkö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1 N/m</a:t>
            </a:r>
            <a:r>
              <a:rPr b="0" lang="fi-FI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 = 1 pascal = 1 P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kstikehys 7"/>
          <p:cNvSpPr/>
          <p:nvPr/>
        </p:nvSpPr>
        <p:spPr>
          <a:xfrm>
            <a:off x="338400" y="5429160"/>
            <a:ext cx="876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1 Pa:n paine on hyvin pieni. Kun kilo riisiä levitetään neliömet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lueelle, syntyy 1 Pa:n paine . Yleisempi yksikkö on kP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1"/>
          <a:stretch/>
        </p:blipFill>
        <p:spPr>
          <a:xfrm>
            <a:off x="357120" y="500040"/>
            <a:ext cx="1643040" cy="2067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Object 7"/>
          <p:cNvGraphicFramePr/>
          <p:nvPr/>
        </p:nvGraphicFramePr>
        <p:xfrm>
          <a:off x="2786040" y="3500280"/>
          <a:ext cx="2257560" cy="103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86040" y="3500280"/>
                    <a:ext cx="225756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Tekstikehys 13"/>
          <p:cNvSpPr/>
          <p:nvPr/>
        </p:nvSpPr>
        <p:spPr>
          <a:xfrm>
            <a:off x="2604600" y="1214280"/>
            <a:ext cx="578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umikenkiä tai suksia käytettäessä pai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jakaantuu laajemmalle ala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kstikehys 3"/>
          <p:cNvSpPr/>
          <p:nvPr/>
        </p:nvSpPr>
        <p:spPr>
          <a:xfrm>
            <a:off x="3380400" y="500040"/>
            <a:ext cx="546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edestä aiheutuvaa painetta sanota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ydrostaattiseksi paineek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kstikehys 4"/>
          <p:cNvSpPr/>
          <p:nvPr/>
        </p:nvSpPr>
        <p:spPr>
          <a:xfrm>
            <a:off x="2959560" y="1500120"/>
            <a:ext cx="54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yvälle sukellettaessa korvat "menevä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ukkoon", koska paine kasva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kstikehys 5"/>
          <p:cNvSpPr/>
          <p:nvPr/>
        </p:nvSpPr>
        <p:spPr>
          <a:xfrm>
            <a:off x="255240" y="2786040"/>
            <a:ext cx="66301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Ilmanpaineen aiheuttaa ilmakehän ilman paino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aanpinnalla se on noin 1 bar = 100000 P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kstikehys 6"/>
          <p:cNvSpPr/>
          <p:nvPr/>
        </p:nvSpPr>
        <p:spPr>
          <a:xfrm>
            <a:off x="33480" y="3786120"/>
            <a:ext cx="911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Ilmanpaine vaikuttaa meihin joka puolelta. Elimistön oman paineen vuoksi emme tavallisesti havaitse sitä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Jos muovipullostaa ilmaa pumpataan pois,se  puristuu kokoon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1"/>
          <a:stretch/>
        </p:blipFill>
        <p:spPr>
          <a:xfrm>
            <a:off x="0" y="428760"/>
            <a:ext cx="3052800" cy="2369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"/>
          <p:cNvPicPr/>
          <p:nvPr/>
        </p:nvPicPr>
        <p:blipFill>
          <a:blip r:embed="rId2"/>
          <a:stretch/>
        </p:blipFill>
        <p:spPr>
          <a:xfrm>
            <a:off x="428760" y="5072040"/>
            <a:ext cx="1060200" cy="1071720"/>
          </a:xfrm>
          <a:prstGeom prst="rect">
            <a:avLst/>
          </a:prstGeom>
          <a:ln w="0">
            <a:noFill/>
          </a:ln>
        </p:spPr>
      </p:pic>
      <p:sp>
        <p:nvSpPr>
          <p:cNvPr id="78" name="Tekstikehys 10"/>
          <p:cNvSpPr/>
          <p:nvPr/>
        </p:nvSpPr>
        <p:spPr>
          <a:xfrm>
            <a:off x="2184120" y="5286240"/>
            <a:ext cx="656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Ilmanpaine pienenee ylöspäin mentäessä, sillä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ilmakehän paino pienen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357120" y="857160"/>
            <a:ext cx="2286000" cy="5121360"/>
          </a:xfrm>
          <a:prstGeom prst="rect">
            <a:avLst/>
          </a:prstGeom>
          <a:ln w="0">
            <a:noFill/>
          </a:ln>
        </p:spPr>
      </p:pic>
      <p:sp>
        <p:nvSpPr>
          <p:cNvPr id="80" name="Tekstikehys 2"/>
          <p:cNvSpPr/>
          <p:nvPr/>
        </p:nvSpPr>
        <p:spPr>
          <a:xfrm>
            <a:off x="2899800" y="928800"/>
            <a:ext cx="620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itä heliumtäytteiselle ilmapallolle tapahtuu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jos se pääsee ir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kstikehys 4"/>
          <p:cNvSpPr/>
          <p:nvPr/>
        </p:nvSpPr>
        <p:spPr>
          <a:xfrm>
            <a:off x="2897640" y="2143080"/>
            <a:ext cx="647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lussa paine pallon sisällä ja ulkona on sam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utta  entä sen jälkeen, kun se kohoaa ylö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kstikehys 5"/>
          <p:cNvSpPr/>
          <p:nvPr/>
        </p:nvSpPr>
        <p:spPr>
          <a:xfrm>
            <a:off x="3647880" y="37861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uorakulmio 1"/>
          <p:cNvSpPr/>
          <p:nvPr/>
        </p:nvSpPr>
        <p:spPr>
          <a:xfrm>
            <a:off x="2071800" y="1428840"/>
            <a:ext cx="6357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Pumppujen ja mehupillin toiminta perustuu ilmanpaineeseen. Ilmanpaine työntää mehun suuhun, johon on aiheutettu imemällä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monster_taking_a_drink_hg_clr"/>
          <p:cNvPicPr/>
          <p:nvPr/>
        </p:nvPicPr>
        <p:blipFill>
          <a:blip r:embed="rId1"/>
          <a:stretch/>
        </p:blipFill>
        <p:spPr>
          <a:xfrm>
            <a:off x="500040" y="321480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2T18:29:24Z</dcterms:created>
  <dc:creator>Tracey Temple</dc:creator>
  <dc:description/>
  <dc:language>en-US</dc:language>
  <cp:lastModifiedBy>Ritva Tamminen</cp:lastModifiedBy>
  <dcterms:modified xsi:type="dcterms:W3CDTF">2009-09-16T15:39:34Z</dcterms:modified>
  <cp:revision>30</cp:revision>
  <dc:subject/>
  <dc:title>Pressure</dc:title>
</cp:coreProperties>
</file>